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D8E-BCFF-4F12-A022-05F2AB4A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8F3-0613-4F48-AC82-7354379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DA9-6CBE-45EA-A5D1-909A2CD9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82D-9FCE-4050-90A6-B27F2B50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D757-3AD9-438B-9E3A-C2EF727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4ED0-69FF-46E2-905D-EA04C10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ABA7-E7C9-4EFB-A927-7A2DB92E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0A88-13A2-4D65-9837-779DAFA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6491-6E71-4DFB-81B1-44C86D29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A917-80DB-4C5C-A0D8-7AF45832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65F1-C4FD-40F9-90B0-E94465A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C6C-C4F7-4833-99F5-5EDFDE9E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DDF8-FE7B-4959-B601-7956D6EC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FE4-B77F-4B30-B55D-E473963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81C9-435E-464F-94DD-1758927D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E4F-1F6E-4EEC-B29B-14EADAB6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C90-63C5-470A-AF85-C3280FE8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5EF-4C80-4F29-AD46-74450062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4DF-CDF6-4EC6-B873-54623A36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77B-35FD-4648-A1DE-B3102776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D24-63CE-41CA-85DD-68C3587F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3A9-66C1-4A8E-964D-B7501C5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F6A-2B16-4BFA-AC2F-2BACE4F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80D-DB11-4866-947A-CA5B5F7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C251-F366-465E-91A9-625434597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CC26-B975-42DF-8FB7-1CF247BED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.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ou want to include your weaknesses in a training program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ethods of practice you used to improve your weak skills and why they are eff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 able to complete part 1 of the NA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w the 3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w the meth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f prac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1 – The Preparation (Cognitive)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2 – The Practice (Associative)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3 – The Automatic (Autonomous)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Methods of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ere is a variety of different methods of practice which we use to develop our skills and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hadow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out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tinuous 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bination 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ditioned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Gradual Build U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Whole Part Wh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tage of Learning Lad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tate what practices would be used at each stage 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                    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gni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NAB – Part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Done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4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t least ½ a page p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MUST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be returned Tuesday 17</a:t>
            </a:r>
            <a:r>
              <a:rPr b="0" lang="en-GB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November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Describe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the methods used to identify your performance strengths and weaknesses. 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servation Schedules (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Consideration of Quality, Movement Analysis, Scatter graph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deo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xplain why these methods were appropriate.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ermanent record – so allowing you to compare them to previous schedules you have done to see if impro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pare them – to a model performer eg. Another member of the class or a professional ath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liable – as carried out in a controll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port specific to badminton – allows you to improve the s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y are effective and appropr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strengths and weaknesses. 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tate your weak and strong skills within badmin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ow would these effect you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rom using the methods of gathering information what strengths and weaknesses  have you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55:57Z</dcterms:created>
  <dc:creator>DooganS</dc:creator>
  <dc:description/>
  <dc:language>en-US</dc:language>
  <cp:lastModifiedBy>DooganS</cp:lastModifiedBy>
  <dcterms:modified xsi:type="dcterms:W3CDTF">2009-11-09T18:36:50Z</dcterms:modified>
  <cp:revision>8</cp:revision>
  <dc:subject/>
  <dc:title>Slide 1</dc:title>
</cp:coreProperties>
</file>